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AD9-F736-4B6E-A55F-08B12316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B31-FE77-43A2-BB7C-1C3DB73E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06E-4DB1-4B02-843E-4533E714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90D-8C47-4A4F-A770-9B5C9B26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EBC-7CA6-4AB5-ACD3-892050E8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A1A-A03B-4DB0-AF05-2124327B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C27-E1A0-42CD-AC81-5E5F8E6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E80-F6A7-4FAE-B9BA-A1326219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7C7-EDF6-4CC0-9AE4-321E30D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ACB-F08D-4DFB-9BD6-0886CAD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9FB-C1BA-4C57-969F-47BD467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C9B-954E-4935-9302-6BA3D4E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B1ED-9F44-4017-A0E0-6C9798D9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ed Gradu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lan + a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of FL +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 advanc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take biology, chemistry, physics + 1 science elective (cannot be I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s must focus on demonstrated student performance at the college or profession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must achieve any combination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research/proje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ed by a panel of professionals in the field that is the focus of the project; or conducted under the direction of mentor(s) and reported to an appropriate audience;  may not be used for more than two of the four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91120"/>
            <a:ext cx="9144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f three or above on AP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f four or above on IB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n the PSAT that qualifies the student for recognition as a Commended Scholar or higher by the National Merit Cor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ge Cour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grade of 3.0 (B) or higher that count for college credit, including tech-prep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2:47Z</dcterms:created>
  <dc:creator>Technology Services</dc:creator>
  <dc:description/>
  <dc:language>en-US</dc:language>
  <cp:lastModifiedBy>Technology Services</cp:lastModifiedBy>
  <dcterms:modified xsi:type="dcterms:W3CDTF">2011-02-28T20:34:43Z</dcterms:modified>
  <cp:revision>5</cp:revision>
  <dc:subject/>
  <dc:title>Distinguished Graduation Plan</dc:title>
</cp:coreProperties>
</file>